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72FF-DC5C-421D-9EC7-1792D5C1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329-B107-4E44-ACAF-F174F509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D17-80B0-4233-8655-87276D5F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937-E4A7-4E73-93E5-E6521FD5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E5DF2-63A5-44D4-BE0A-55B4D55B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F920A-C711-4273-8534-A7722675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CCFED-B8FD-4A25-A7DC-B8C24561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2C908-8444-4124-B185-32540C66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77936-C0B1-490F-BF81-F835EADE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85086-CC31-493A-B362-9F8CC7FE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33805-48A0-4555-BF49-34F9915A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3C8-AD0E-4590-B621-662D0287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C24B9-A495-431F-B3B0-F729518F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522E2-7362-4F8F-B28A-BF36F337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A58EF-594B-43C1-99E9-99D10C64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72E29-A2D9-4A74-89BE-37C5B5E7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96C2D-2AAD-4411-9BF3-40D6FB7B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576F-3C91-4178-B207-832A846A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D843-14AF-485E-9AD7-8A429AB2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29923-8761-4209-BB06-86FEFF8B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E5DD-5CCA-4653-B828-931FCC5A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95C7-6A2A-4C1D-939A-76DE67A6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B2D-9F47-4747-A2D0-4D670A69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D25A2-6D61-438D-BA07-9666B00B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CCD3-77BB-4B88-953B-0FB976CE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5140B-D423-4F06-BE12-E4E99537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20192-1FBB-4A0E-9B98-14516ACF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7931-DDDA-4AE0-AA05-89136F0E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F91A-9013-439B-8683-D1B2EE76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1C627-89B6-4ED2-B724-6996C878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CEA66-9105-4FC8-9F76-486AC0B0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9F29B-CCF8-4A83-BC06-B0F083A0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777E1F-4726-49E9-AAB3-1ACF5476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79F-F8AE-4F4B-9EE1-5B418900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37BB9-5A7A-419B-A72B-F5B8B4A0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A4FDB1-1983-41D9-9F7E-DE1FA4AB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56D5A6-5A41-4B05-998A-59D0A938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7D09F3-CC4B-4F0C-8212-BABA9183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430CA-0717-4201-9185-9890B4A9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8F224A-9255-48EC-B54D-D854BB64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50B0FF-4E31-4AE3-9B41-EFA395E3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B4310-C7FE-4E76-B30D-7938B909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17B8AD-C79A-4B1D-827A-58FAD8C8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D45-9251-41A6-90FD-769995B9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7B6-85CE-45F4-B9BA-15ED7379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026-28E9-4584-868D-4AE1011F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3D6-8D57-47DF-92FA-468F2D28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EEE3-4E63-49A0-9CEF-FC4325DE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CEFB-A3CD-4A5D-9DC6-38D35A60D89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BED0-6381-4615-ABD7-45D6B977C7C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5EA9-502A-4959-86DF-D83AFE5E3B2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1437-6DD1-4EFD-83A9-613D306CF5E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y:Daniel Ki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44600" y="1427040"/>
            <a:ext cx="8327880" cy="1992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Create a timeline of Soviet history under Communist rule, beginning with the October Revolution of 1917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Identify the following people/groups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Karl Marx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Czar Nicolas II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Josef Stalin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Leon Trotsky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Alexander Kerensky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Vladimir Lenin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Gregory Zinoviev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Lev Kaminev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The Proletariat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Pravda -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The KGB -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Find a speech by a famous political leader (from any country) and summarize the theme of his/her speech. Include in your analysis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What was the political leader’s message?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What was the nation supposed to do in response to the speech?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Do you agree or disagree with the contentions made in the speech? Why or why not?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Attach a copy of the speech you found. If you found it on a video, you need to find a written transcript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Your summarization needs to be minimum 1 page, typed and double-spaced, maximum 2 pages typed and double-spaced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Karl Marx -He was a German philosopher , radical economist, and a revolutionary leader. He founded modern scientific socialism, which is widely known as Marxism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Czar Nicolas II -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Born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May 19, 1868 in Tsarskoe Selo, Russia ,Died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July 17, 1918 in Yekaterinburg, Russia ,Nationality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Russian, Occupation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Emperor, Nicholas II (1868-1918), the czar of Russia from 1894 to 1917, was a staunch defender of autocracy. A weak monarch, he was forced to abdicate, thus ending more than 300 years of Romanov rule in Russia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Josef Stalin-Josef Stalin was the man too keep in control of world communism for approximitely 30 years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Leon Trotsky -He was considered a Marxist or a scientific Marxist..He was arrested and exiled and he escaped from all two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Alexander Kerensky -he was born in simbersk, a city in the russian empire, born in May 4, 1881; died in New York City on June 11, 1970. Son of Fedor Mikhailovich Kerensky and Nadezhda Alexandrovna Adler Kerenskaya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Vladimir Lenin -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Born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April 10, 1870 in Ulyanovsk, Russia Died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January 21, 1924 in Moscow, Soviet Union Nationality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Soviet, Occupation</a:t>
            </a:r>
            <a:r>
              <a:rPr b="1" lang="en-US" sz="1400" spc="-1" strike="noStrike">
                <a:solidFill>
                  <a:srgbClr val="ffffff"/>
                </a:solidFill>
                <a:latin typeface="Agency FB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Head of state, Vladimir I. Lenin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Gregory Zinoviev -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Lev Kamenev -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The Proletariat -in Marxian idealism, the class of  workers and wage earners who depend on the sale of their labor for their existence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Pravda –This was a source of newspaper articles and the most reliable type of trusted news that Vladimir Lenin made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ency FB"/>
              </a:rPr>
              <a:t>The KGB –This was the first secret police force of the revolution of 1917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6:39:48Z</dcterms:created>
  <dc:creator>200177415</dc:creator>
  <dc:description/>
  <dc:language>en-US</dc:language>
  <cp:lastModifiedBy>Angie</cp:lastModifiedBy>
  <dcterms:modified xsi:type="dcterms:W3CDTF">2011-02-16T02:25:26Z</dcterms:modified>
  <cp:revision>10</cp:revision>
  <dc:subject/>
  <dc:title>The History of 1917 Revolution</dc:title>
</cp:coreProperties>
</file>